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21.pct" ContentType="image/x-pict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C91-9F83-48D6-B319-9D2D8F4B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E29-8DFC-49FA-AD69-463E310D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472-4686-4799-A05D-8E1D30E1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5D3-F539-4504-88FA-C7D16DE8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F0C4-83CC-4178-A5F7-496BEDF1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39E6-26F6-4003-944D-D77BAC90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38BF-0CA1-49B0-80C4-BBF7A759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AC31-AE6C-4DC2-9F4A-F3AECCB1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EAAA-A071-4E56-AD5D-9731CABA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B7F8-55A1-48C2-AB42-68209721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4FEF-E9D0-4AF7-ABF5-B6A9194A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7AB-3621-46C2-8979-05D9A87B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E6CD-F3AA-4636-B27E-981A4345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91A6-960B-44B8-BBE5-9F81BE81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259D-008D-4788-9C0C-90F994F3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60A9-6E8D-423A-9F81-2B54D0A3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0592-26C0-4BFA-B315-28DCE700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92F-C184-4F71-BBE1-7CEB3893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34C-3479-4597-86BD-7655A23E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F23-C559-4616-9C71-F3959724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8DE-A5F6-4B28-AD34-BB495236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17F2-F6F8-4E6D-8D70-5C537793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BDFA-3948-49AD-AB4C-3CF40B89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C9F-9E0E-4669-AE1A-0E11EFE1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E179-98EE-41FF-9B83-BED129B287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D21C-71B3-4B40-8466-5A13B0BC15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EVALUATION &amp; CAR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Rachel Steinhart, MD, M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mergency Medicin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63244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CRMC Family Practice Resident ER Rotation - August 200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now Kanaval’s Sign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 Flexor Tenosynovit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0" t="-6372" r="0" b="7973"/>
          <a:stretch/>
        </p:blipFill>
        <p:spPr>
          <a:xfrm>
            <a:off x="3124080" y="1523880"/>
            <a:ext cx="2901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anavel’s Sig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usiform sw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nger held in flex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vere pain with passive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enderness to palpation along proximal tendon sh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4952880"/>
            <a:ext cx="8153280" cy="1373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RGENT SURGICAL CONSULTATION REQUIRED FOR TIMELY DEBRIDEMENT TO AVOID LIMB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SER INJ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The Adelaide man after being hit in the eye with a dart, right, from a Taser stun gun.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aser injury is a marker for “AGITATED DELIRIUM”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2209680"/>
            <a:ext cx="8153280" cy="39805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ull da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Basic puncture wound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Verify tetan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Assess for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habdo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myolysis - U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Beware of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hest pain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complai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crotizing Fasciit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rcRect l="0" t="0" r="0" b="12996"/>
          <a:stretch/>
        </p:blipFill>
        <p:spPr>
          <a:xfrm>
            <a:off x="457200" y="2309760"/>
            <a:ext cx="4038480" cy="3106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ecrotizing Fasciit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in out of propor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oxic appea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achycar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ypo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repi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ishwater drain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isrupted fas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9057" r="0" b="14490"/>
          <a:stretch/>
        </p:blipFill>
        <p:spPr>
          <a:xfrm>
            <a:off x="4959360" y="1600200"/>
            <a:ext cx="3416400" cy="3352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5181480"/>
            <a:ext cx="8077320" cy="1373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MMEDIATE SURGICAL CONSULTATION REQUIRED FOR EMERGENT DEBRIDEMENT TO AVOID LOSS OF LIFE OR LI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094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Wound Closu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esth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ime to cl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losure techn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st closure management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operties of commonly used local anesthetics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80880" y="1295280"/>
          <a:ext cx="8305920" cy="4765680"/>
        </p:xfrm>
        <a:graphic>
          <a:graphicData uri="http://schemas.openxmlformats.org/drawingml/2006/table">
            <a:tbl>
              <a:tblPr/>
              <a:tblGrid>
                <a:gridCol w="2590920"/>
                <a:gridCol w="1066680"/>
                <a:gridCol w="1828800"/>
                <a:gridCol w="1143000"/>
                <a:gridCol w="1676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Ag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Max. safe dose mg/k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Onset (mi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Duration (hr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Procaine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(Novocain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E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0.25-0.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Procaine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+ E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0.5-1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Lidoca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Am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1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Lidocaine + E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Bupivacaine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 (Marcaine)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Am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4-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Bupivacaine + E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8-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ducing pain of local anaesthetic infiltration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-Small-bore need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2-Buffered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3-Warmed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4-Slow rates of inj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5-Injection through wound e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6-Subcutaneous rather than intradermal inj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7- Pretreatment with topical anesth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nsider regional nerve block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ay sav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crease possibility of systemic toxicity with large wound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ess painful than local infil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void volume-related tissue distor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l Wound Evalu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Hist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Foreign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edical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All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etanus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Exa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Contamina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Neurovasc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endons &amp; B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kin and Wound Prepar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move hair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isinfect skin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NO (H2O2, iod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bride wound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rrigate wound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YES  (Tap=Bottl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essure &amp; volume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erile gloves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NO (infection rate s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Foreign Bodi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st glass, metal, and gravel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 are r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diopaque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od and some aluminum are radioluc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Glass is visualizable on 2-view radiographs if it is </a:t>
            </a: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2 mm, gravel if it is </a:t>
            </a: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1 mm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It is always wise to discuss risk of retained foreign body in spite of aggressive exploration and irrig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Closur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Time to cl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layed primary closure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p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G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ta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u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uturing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TIME TO CLOS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3657600"/>
            <a:ext cx="8610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erk WA: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Evaluation of the "golden period" for wound repair: 204 Cases from a third world ED.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nn Em Me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1988.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&lt;19 hours to repair 92% satisfactory hea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&gt;19 hours to repair 77% satisfactory hea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ception: head and face lacerations had 95.5% satisfactory healing, regardless of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Morgan WJ: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The delayed treatment of wounds of the hand and forearm under antibiotic cover.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Br J Surg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1980. 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300 hand and forearm lac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closed &lt; 4hr had infection rate 7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closed &gt; 4hr  had infection rate 2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layed primary wound clos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High risk wounds that are contaminated or contain devitalized tissue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is initially cleansed and debr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vered with gauz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eave undisturbed for 4 to 5 da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f the wound is uninfected at the end of the waiting period, it is closed with sutures or skin tapes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ISSUE ADHES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. Mizrahi: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Use of Tissue Adhesives in the Repair of Lacerations in Children. Journal of Pediatric Surgery,April, 198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500 pediatric patients with simple laceration glued in 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nfection 1.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hiscence 0.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Which laceration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hort (&lt; 6-8 c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ow tension (&lt; 0.5 cm ga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lean ed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raight to curvilinear wounds that do not cross joints or creases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Contraindications for glu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Jagged or stellate laceration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Bites, punctures or crush wound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ontaminated wound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Mucosal surface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Axillae &amp; perineum (high-moisture areas)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Hands, feet &amp; joints (unless kept dry and immobilized)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STAPLE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onsider staples for linear lacerations not involving the f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Frequently used for scalp, trunk, extrem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Optimally, two operators perform this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osmetic effect is equivalent to sutures/g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SUTUR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mple interru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st com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Easy to master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an adjust tension with each s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ellate, multiple components, or directions w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mple r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nimize time of suture re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ven distribution of ten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ow-tension, simple linear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moved within 7 days to avoid suture ma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ptimal suture material is non-absorb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ETANUS PRONE WOUN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ound fractures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ep penetrating wounds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containing foreign bodies (especially wood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complicated by pyogenic infec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with extensive tissue dam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ur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contaminated with soil, dust or horse manure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-implantation of an avulsed to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Prophylactic Antibiotic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Bite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ntaminated or devitalized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High risk sites eg. F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mmunocomprom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Risk for infective endocard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ntraoral through and through lac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V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Lymph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ndwelling prosthetic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xtensive soft tissue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ep puncture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ophylactic Antibiotic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3-5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Augmen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Kefle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Erythromyc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296000" y="2077920"/>
            <a:ext cx="601164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cc00"/>
                </a:solidFill>
                <a:latin typeface="Arial"/>
              </a:rPr>
              <a:t>Alternate Suturing </a:t>
            </a:r>
            <a:endParaRPr b="0" lang="en-US" sz="5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cc00"/>
                </a:solidFill>
                <a:latin typeface="Arial"/>
              </a:rPr>
              <a:t>Techniques</a:t>
            </a:r>
            <a:endParaRPr b="0" lang="en-US" sz="5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160880" cy="48006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86000" y="6094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IMPLE 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Horizontal Mattres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ause wound edges e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ingle layer closure with significant 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crease repair time, less knots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Need delayed suture removal, so risk of suture ma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057400" y="3429000"/>
            <a:ext cx="40384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Vertical Mattres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High-tension woun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Prone to skin suture marks if left in too lo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49528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MPLEX WOUND CLO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01992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Recommendations for tetanus prophylaxi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" y="7448400"/>
            <a:ext cx="231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do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752480"/>
          <a:ext cx="7620120" cy="3456000"/>
        </p:xfrm>
        <a:graphic>
          <a:graphicData uri="http://schemas.openxmlformats.org/drawingml/2006/table">
            <a:tbl>
              <a:tblPr/>
              <a:tblGrid>
                <a:gridCol w="3495600"/>
                <a:gridCol w="1047960"/>
                <a:gridCol w="1118880"/>
                <a:gridCol w="978120"/>
                <a:gridCol w="979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History of Tetanus Immunization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I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I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Uncertain or &lt;3 doses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Last dose within 5 y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Last dose 5-10 y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Last dose &gt;10 y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3886200" y="1295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Not Pron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   Pr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6920" y="5486400"/>
            <a:ext cx="744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Be certain to clarify history of dT  - patients confuse PPD with d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AUTION with tetanus prone wounds in elderly &amp; foreign bo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=&gt; Seriously consider TI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2640" y="31240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COSMETIC ISSU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4749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19320" y="2362320"/>
            <a:ext cx="7543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HIGH RISK COMPLEX LACERATIO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743200" y="76212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33520" y="1752480"/>
            <a:ext cx="177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Do NOT suture cartil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Give antibio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565440" y="838080"/>
            <a:ext cx="4664160" cy="51818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33520" y="1752480"/>
            <a:ext cx="177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ossible lacrimal duct lac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Consult opt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5333760" cy="44578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7560" y="511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752480"/>
            <a:ext cx="177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ossible parotid duct lac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Consult ENT/H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uggested Suture Removal Tim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Area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Removal time (day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ce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3 to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eck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5 to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calp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7 to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pper extremity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8 to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runk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0 to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xtensor surf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and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wer extremity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4 to 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SCHAR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Keep initial dressing clean, dry, and in place for first 24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fter 24 hours okay to wash but not so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pply antibiotic ointment 2 times daily - primarily to facilitate suture rem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If extremity splinted to avoid dehiscence, keep splint in place at all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Return for progressive redness, swelling, pus or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ocedure No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ize location and shape of w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orough sensory-motor &amp; vascular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ound explored in bloodless field, no F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mount and type of anesthe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mount, type and method of irr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umber &amp; type of stitches &amp; suture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ressing appl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nstructions to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etanus &amp; Antibio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41680" y="784080"/>
            <a:ext cx="54126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cc00"/>
                </a:solidFill>
                <a:latin typeface="Arial"/>
              </a:rPr>
              <a:t>Important 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cc00"/>
                </a:solidFill>
                <a:latin typeface="Arial"/>
              </a:rPr>
              <a:t>wounds 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cc00"/>
                </a:solidFill>
                <a:latin typeface="Arial"/>
              </a:rPr>
              <a:t>to recognize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gh Pressure Injection Inj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Barner, Albert 061401_03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838080" y="55627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Extent of injury easy to underest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139760"/>
          </a:xfrm>
          <a:prstGeom prst="rect">
            <a:avLst/>
          </a:prstGeom>
          <a:solidFill>
            <a:srgbClr val="0068ae"/>
          </a:solidFill>
          <a:ln w="25560">
            <a:solidFill>
              <a:srgbClr val="cc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TIENT WITH HIGH PRESSURE INJECTION WOUND NEEDS URGENT SURGICAL CONSULTATION FOR TIMELY DEBRIDEMENT TO AVOID LOSS OF LIMB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Barner  Albert 01 X-ray 06-14-01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938320" cy="4114800"/>
          </a:xfrm>
          <a:prstGeom prst="rect">
            <a:avLst/>
          </a:prstGeom>
          <a:ln w="0">
            <a:noFill/>
          </a:ln>
        </p:spPr>
      </p:pic>
      <p:pic>
        <p:nvPicPr>
          <p:cNvPr id="230" name="Inject_004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3353040" cy="2032200"/>
          </a:xfrm>
          <a:prstGeom prst="rect">
            <a:avLst/>
          </a:prstGeom>
          <a:ln w="0">
            <a:noFill/>
          </a:ln>
        </p:spPr>
      </p:pic>
      <p:pic>
        <p:nvPicPr>
          <p:cNvPr id="231" name="Inject_005" descr=""/>
          <p:cNvPicPr/>
          <p:nvPr/>
        </p:nvPicPr>
        <p:blipFill>
          <a:blip r:embed="rId3"/>
          <a:stretch/>
        </p:blipFill>
        <p:spPr>
          <a:xfrm>
            <a:off x="4572000" y="4267080"/>
            <a:ext cx="33526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nuckle Laceration = Fight Bi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286000" y="1803240"/>
            <a:ext cx="44197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ight Bi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void closing any wound over a knuckle unless you have explained to the patient the risks of closing a wound that has had contact with sal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3962520"/>
            <a:ext cx="7848360" cy="18003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TIENT WITH INFECTED FIGHT BITE NEEDS URGENT SURGICAL CONSULTATION FOR TIMELY DEBRIDEMENT TO AVOID LOSS OF LI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2T20:15:57Z</dcterms:created>
  <dc:creator>faras</dc:creator>
  <dc:description/>
  <dc:language>en-US</dc:language>
  <cp:lastModifiedBy>Steinhart Rachel</cp:lastModifiedBy>
  <cp:lastPrinted>2009-04-22T19:24:48Z</cp:lastPrinted>
  <dcterms:modified xsi:type="dcterms:W3CDTF">2015-09-22T23:39:19Z</dcterms:modified>
  <cp:revision>31</cp:revision>
  <dc:subject/>
  <dc:title>WOUND CARE AND REPAIR </dc:title>
</cp:coreProperties>
</file>